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621-4467-45A9-9CD6-9A885891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120-446E-4510-9F7E-669B9BF3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E22-44A8-42EF-BA49-55FF9EC5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166-2F13-4367-8415-FAF8DF6D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5DCA-D274-476E-AF18-E60097F8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5E56-BD5D-4F36-A602-010F9E5E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533A-C9F3-475E-ABCC-5AD8047C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34BE-D7F9-4D94-A4E9-9E222A6E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1818-ED7F-49AF-A42C-1C84191F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E126-7315-4EFC-A513-BD20FEEB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BFCB-1985-4DA2-8C6E-6A24613D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883-DCCD-4AEB-A467-1A2EA9DB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7C13-3F1B-4D26-BB20-E8A53512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362C-69E7-4E65-AAB2-36033678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2FF5-4C2E-4FF4-896E-2C912B9D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218D-8E0C-4311-8E94-583697E1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B553-2641-43EC-A225-13002AFB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E79-D3FC-4FDA-87EA-06B702B5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9E2-8F35-4CF2-ACC9-E880CBA0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204-2FD7-4208-95D2-AE00B8FC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E72-DB86-426B-9A7A-FDC5C6FD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FFB-5971-49C1-8437-4C7D216E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1D5-1460-404C-9CB5-7603741A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567-78B1-4677-870D-085C50A1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28a84"/>
                </a:gs>
                <a:gs pos="5000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412F-96FA-4969-BD94-9151950F00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28a84"/>
                </a:gs>
                <a:gs pos="5000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EB40-9953-4D72-AE59-550FA2BAD6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2692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NUCLEIC ACID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626" t="4249" r="626" b="5558"/>
          <a:stretch/>
        </p:blipFill>
        <p:spPr>
          <a:xfrm>
            <a:off x="266760" y="1397160"/>
            <a:ext cx="8686800" cy="45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6600"/>
                </a:solidFill>
                <a:latin typeface="Arial"/>
              </a:rPr>
              <a:t>RNA </a:t>
            </a: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WHAT is RNA? – Ribonucleic Acid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Consists of a long chain of nucleotides </a:t>
            </a:r>
            <a:r>
              <a:rPr b="0" lang="en-CA" sz="2400" spc="-1" strike="noStrike">
                <a:solidFill>
                  <a:srgbClr val="ffffff"/>
                </a:solidFill>
                <a:latin typeface="Comic Sans MS"/>
              </a:rPr>
              <a:t>(made up of 5-carbon sugar, phosphate group, and a nitrogenous b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The sugar is a rib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RNA is single stra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Contains Uracil in place of Thym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WHAT is RNA? – Ribonucleic Acid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3780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Ribose sugar has an extra –OH or hydroxyl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4292640"/>
            <a:ext cx="36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It has the base uracil (U) instead of thymine (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49320" y="1413000"/>
            <a:ext cx="18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itrogenous 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A,G,C, or 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5960" y="6381720"/>
            <a:ext cx="1553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gar (ribos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755" t="14178" r="11809" b="4231"/>
          <a:stretch/>
        </p:blipFill>
        <p:spPr>
          <a:xfrm>
            <a:off x="4067280" y="2060640"/>
            <a:ext cx="4752720" cy="4221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40360" y="4437000"/>
            <a:ext cx="1523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hosph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960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ra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CHECK FOR UNDERSTANDING!!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981000"/>
            <a:ext cx="876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4880" y="722160"/>
            <a:ext cx="763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1484280"/>
            <a:ext cx="7864560" cy="52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1. What molecules compose a nucleotid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1.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  Deoxyribose sugar, phosphate, and a nitroge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Ribose sugar, phosphate, and a nitroge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2.  Describe the shape of a DNA molec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2.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  Long chain of nucleotides arranged in a spiral called a DOUBLE HEL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Comic Sans MS"/>
              </a:rPr>
              <a:t>Q3. What is RNA made up of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A3. </a:t>
            </a:r>
            <a:r>
              <a:rPr b="0" lang="en-CA" sz="3200" spc="-1" strike="noStrike">
                <a:solidFill>
                  <a:srgbClr val="000066"/>
                </a:solidFill>
                <a:latin typeface="Comic Sans MS"/>
              </a:rPr>
              <a:t>Long chain of nucleotides, which consists of a sugar (ribose). It is single stranded and it contains Uracil in place of Thym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DNA was first isolated by Swiss Biochemist Johann Friedrich Miescher in 186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ince DNA molecules are acidic and found in the nucleus, Miescher called them nucleic aci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Before scientists could fully explain their function, they needed to clearly understand their struc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189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WHAT IS IN DNA?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ffffff"/>
                </a:solidFill>
                <a:uFillTx/>
                <a:latin typeface="Arial"/>
              </a:rPr>
              <a:t>Nucleic Acids: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Macromolecules containing hydrogen, oxygen, nitrogen, carbon and phosphor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Nucleotide – monomer of nucleic aci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NA is made of repeating NUCLEOT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DNA nucleotide consists of a five carbon sugar called DEOXYRIBOSE, a PHOSPHATE group and a NITROGEN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NITROGEN BASE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2 groups of compoun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1. Purines – have two 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2. Pyrimidines – have one 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4 nitrogen b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1. Adenine &amp; Guan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2. Cytosine &amp; Thymine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781680" cy="4438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NUCLEOTIDE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Arial"/>
              </a:rPr>
              <a:t>Nucleic Acids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064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tore and transmit </a:t>
            </a: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hereditary/genetic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06864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omic Sans MS"/>
              </a:rPr>
              <a:t>Contain information for making all the body’s prote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4653000"/>
            <a:ext cx="7696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Two types exist -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Deoxyribonucleic acid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(DNA) &amp;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Ribonucleic acid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(R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STRUCTURE OF DN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iscovered by Watson (Biologist) &amp; Crick (Physicist) using scale models of nucleotides that were arranged in a spi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Looked like a “twisted ladder” and they called it a DOUBLE HEL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ides - made of alternating sugar and phosphate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STRUCTURE OF DNA cont.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Rungs - made of paired nitrogen bases paired by hydrogen bonds and are combined in a particular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-T and C-G (adenine pairs with thymine) and (cytosine pairs with guan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Arial"/>
              </a:rPr>
              <a:t>Nucleotide  Monomers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Form long chains called D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3297" t="38424" r="54312" b="7760"/>
          <a:stretch/>
        </p:blipFill>
        <p:spPr>
          <a:xfrm>
            <a:off x="5148360" y="1341360"/>
            <a:ext cx="3271680" cy="5183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374160" y="1413000"/>
            <a:ext cx="1148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Backb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6320" y="2060640"/>
            <a:ext cx="1215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Nucleoti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0160" y="5157720"/>
            <a:ext cx="777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Ba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651640" y="1628280"/>
            <a:ext cx="809640" cy="79236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16720" y="2420640"/>
            <a:ext cx="762120" cy="70308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659640" y="3860280"/>
            <a:ext cx="720720" cy="129708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372000" y="5373720"/>
            <a:ext cx="936360" cy="28728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59000" y="616572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NA st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386064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Nucleotides are joined by sugars &amp; phosphates on the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2:51:09Z</dcterms:created>
  <dc:creator>MattJodi</dc:creator>
  <dc:description/>
  <dc:language>en-US</dc:language>
  <cp:lastModifiedBy>MattJodi</cp:lastModifiedBy>
  <dcterms:modified xsi:type="dcterms:W3CDTF">2008-03-25T23:57:55Z</dcterms:modified>
  <cp:revision>11</cp:revision>
  <dc:subject/>
  <dc:title>Slide 1</dc:title>
</cp:coreProperties>
</file>